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D29CC-965F-43FB-B2E3-6A150D6778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E1114-F0B1-4C3D-90E3-9CEA8B3E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60ECB3-464A-4E54-892F-D0BD6874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AA30A8-12B8-496C-937F-292887C7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20E118-7F9C-4659-8512-C632A918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34D265-1686-4FA9-8B3D-409CC1B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7689B1-4554-4427-A5DC-E3CC23A2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DAC452-E50F-4E7F-9687-F2650E64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9DF8FA-2724-4382-A849-BB7674B7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F3AAD3-9626-49A0-9605-EF7B9D39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A5E47C-616D-430A-8E88-68294243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3F792-DE67-47ED-AB4E-35C36D91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9909-6320-4AAC-9AB7-7972C93E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BCD7C-E04C-4B4D-95D6-DD442009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8875FA-BBDB-4F12-B15E-B974CE96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9A503-64D5-4B6E-A0E3-8C0EC2B6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EF8D1-8097-425D-9EC5-4E00B3BE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53E6E-882C-45AF-9061-7A499B74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745BA-9CB9-4E79-822F-A9565C6C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D236B-6C2D-423C-AB1E-6AF27BE1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B14FC-BD30-418B-9525-1632D6A3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734B0-5437-4B8A-B330-56CB895C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757DD-991F-4759-A181-9EEE00EA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37977-0E47-46FE-A274-54840D4184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FED06-CFE0-4A4C-8AD6-43A058EE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01342A-DAAA-4E4E-883E-11DB9180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06044-7D21-42F7-BFE5-67D4265B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461F92-0FCA-492E-94AD-3B1D8013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80648-FF7B-44AA-B3F5-EB504B58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DE622-E3C4-4741-8111-B0CD2472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3B37E-AE83-4554-B1AD-9C420185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40F66-173C-4FD1-9CF0-AF99BCA4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2394C-E105-4B24-969C-EF5C857D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AE8C7-1DE1-4A3E-97D4-4F8EB6B0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1DA5F-E1EA-4B02-9451-FF90778B1E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641DC-18D5-407B-B298-304EE5D6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00344-1942-4F5A-883B-201B8A47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37199C-D0BC-467F-B2B0-E6D329F7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6336A5-AEDC-493E-99AB-3CB775F8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D07D9F-11AE-4AD5-A45A-D0009844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3C5B85-91B4-413D-B59B-8EC58D34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8031C5-72EA-44EF-80F8-7958638A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CDF70B-7451-4365-888A-C33FA775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7B4D89-94D0-48A7-9D7C-21A6FCC1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4CFC2F-510F-470D-92D1-9D627680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9EC58-23C7-4D30-A3AF-C9EB0981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EC6A7D-72C5-4356-9C5F-446E0ECD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1C78CA-B121-4CDD-89F3-82214949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99399E-AD76-4F2B-B92B-E872CB0F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BB9120-95F6-401D-B712-0E98D9E3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668D99-1BB1-4194-9512-3FBE3C1E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D2D07-E6A0-4D6A-B6C1-E05118DC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DDD2D-F981-446D-ACFE-C6F4779B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07D3B-3C7D-4A4A-9877-9665C3D4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40CC7-83E4-4367-B9C9-B4D1A9FF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3BCD1-DD02-445E-9E13-FEDC337E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2C93C-4FDE-4A79-BF9B-038A8E15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524B1-5C13-4519-BA17-F3ED758D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2C853-FEE4-4677-B030-92B99753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809D3-0750-479B-A3D8-89C35DF5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53A455-799B-4192-8DF2-C80CA808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73632E-0341-4E60-84F9-967DAA8F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A88C6-B6EE-4AEB-BCCB-F17FF412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DA676-B6FA-44C6-9A95-347E957B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E0C00A-660A-40B0-A086-D5A78EEA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BB8B51-368F-4ECD-AD7D-47C7C067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924A22-EB21-4CF6-A29A-DB43C5C1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87EAA-EF22-45A5-9AE4-03C97896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44BC55-D04F-4859-B5B4-7AC2B70E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0DE174-A191-4186-8CF3-5C23BA6F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0B2151-F610-4AC5-BDB8-3714A4E1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2BD8BD-7341-4EF7-B0A8-94A37717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42C683-BE6E-4463-AE05-3CDA9451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715E45-A10D-4D11-A9B6-D209C32D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145788-9E9F-483E-B489-41ECF909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4BCFCA-FC14-4474-BDFF-26CDBF5F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67103E-AFB3-42B6-B81C-CDC68653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1A1E60-2188-4F3F-A42A-2CEAA6AE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7AE03-C23A-464D-B79E-67D36E08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446101-A619-4F46-8F37-D2021C98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C04199C-7199-49B5-B5F8-812344FD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9576131-9B71-4C47-A491-6BB3ED9D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7FC563-A045-4622-AC6B-5FEB512B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2234C3-4533-4664-AA2F-1461E0BE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943644-B0A8-43D9-8A97-53AD2707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954D3F-9DFB-4DF9-B621-A3D0C94A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A9D91A-1B45-4E89-BC4B-269970A1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692036-0C61-471E-8753-BA7CB398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61B0E1-7A28-4197-8CF3-6298AF7D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36159-335B-4A94-B884-04229EE9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BBD7E9-C396-436D-9299-DA1BE645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4AFDE17-A9A9-4F74-9DFD-A62B7C27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40AE0A3-CEB3-4C34-91C1-DE32EA4A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1A184F-C069-4063-BE89-0BCEB1B7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507186-DC55-4805-82FE-F3DCC31E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529D93-8180-4A1D-9D18-F3748A75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1035E8-DE7F-4692-8399-F95C3DCB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F3387A-8EA3-4FE2-AB4E-ED6B76ED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040A1D-65B4-4A60-A93D-4853B8EB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8DDF088-3F17-4D9C-B421-E638A77F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F5601-C743-41A2-BDC6-2E7B7762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7A715F9-5E87-46FA-8742-EB320899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DE690C-A631-49B0-AEF4-D9ADC665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A6DFEC-E9E9-48C4-89D9-765704F6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FC22-56B4-47FF-9EA0-D9A2508F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0BA73-51F7-47D4-A56A-BBF44364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F989E6-5E14-4EED-984C-D835A7BF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A1A33DA-EA99-42BC-A30F-3DA37385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A32FA5-AF9E-414D-9C41-8AF4E087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C8517A-2389-4539-8337-9E7B811A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A621DB8-E537-47A1-A0CD-ACD941B2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01D58-7671-47E0-B6DE-410539A7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1B56211-3F64-4E4E-AE0A-76518750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B0BDC7-032B-40AA-B6C2-1C4DB6C9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C1B3E4-700B-49CC-9C1F-FF0623C1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8EDAF0-17B8-47FF-B98A-CA2463DF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534B12-47ED-4FB7-8D2F-8DBB1787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6E9A53E-07E2-4AC8-AEC6-B1722177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176E08-6C03-439D-AD97-B3D2F589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E099B0F-821B-429D-844C-4ACFE808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CED6759-6E10-4600-8979-F051ADDA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DB2A4F-5571-44CE-B83F-B6A3000D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CE381-A27A-4B0F-94ED-297D890F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E147310-DAE3-40FA-827A-979FDF9B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90D9DD2-CC96-4A3B-96A5-8E4C1243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0EEC873-B1E0-464C-829C-172413FE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B0FBB6C-11F2-4651-9977-529C7517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725FA36-2578-4E13-9C87-2FF40014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BE8FAE1-875E-4C8A-BD68-00295C7D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F284CD0-C837-4AD9-9656-30610D6F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5C7B270-CF4C-4ADD-BFC2-D2B34308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BD9F3D8-8688-4765-983F-9BA8A2CA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CBB5243-209B-4F8F-B538-F8F5F630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03B11-5435-4034-A1A1-F02BDEF3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3807E2C-733E-46FF-B8F6-92EC5FA6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6C9D616-8BAC-4775-BE26-49D78393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5C97DB7-BDED-458F-B78E-334AE98B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E1F5BF7-BAF9-444C-92E7-FEBD3DA6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54FAE5-C209-42A7-B33C-2A2B1E3D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423FC0D-E3D1-4D38-AD38-6A6CDF24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0A3F88E-4E93-41A8-B96A-B0C7922F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25A024-71E9-4DDA-BC4E-83B3CA78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CECC4AE-E621-424D-84F7-14A588BA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8344F8-BEAE-41F4-9466-3A618606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B04EF-31A7-408B-9086-2E719A4FEC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D704E1-BC67-4BB2-805B-5A119090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B8FBD61-9F02-40E2-B091-639AADC1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D33D69D-107E-4B93-95D3-C980D7D0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24FEAE4-3454-4F49-A105-D430BA11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854CEE8-74FF-4691-81A4-45733EC7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3BF3A19-B1FA-4BA2-869F-B5DDA782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A1721CE-58AC-42E3-B92E-2970A0DE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7A050AB-907D-49C0-B566-E1B8FC84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E4F15C5-B048-4220-8BD6-3909D401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7F23597-3A26-462C-AC4F-C1FE5F1F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99B82-E2C3-4F75-AF50-C0A598B1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AFFE53F-7BA8-43AA-953E-4B1513FD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4A3B635-BD6E-4682-B561-7E9FB691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868A57D-7D47-4DA7-A7D0-0CA2C8B4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724B0E9-B34C-443E-8C25-4E816607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F4F6BDF-23FE-4C0A-8478-A5E152D5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824CFB5-09D4-4564-B329-9B2AEBCC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AB1113D-CCFE-4B7A-A17F-9F6CF06A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1A4EA47-D2BF-4537-81B1-B5073B04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E5F0A70-2025-4026-B871-DA9947A8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95E97F9-46EB-457F-ACD8-8352B279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FCEB68-9F9C-4F23-9B20-E68CE771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DCD9CC4-A84A-433F-8E80-49FD8B3F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CAF7E5F-EF64-4514-908A-997BF03B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EEAFAB-1277-49AD-B65A-F957B2AB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DD001C6-B9DE-4709-9238-4687C592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9C33BB2-BAF5-4237-B2FE-A2629886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1CD093C-8293-47B5-9D4D-7780D720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96ABA5A-D20E-42D7-BA7E-DB4B5A65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2F30B10-6DEF-4D8D-91F1-451448D6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071B0FB-C139-4CF6-A7F3-7DC7F72C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7A92FEB-0DAD-4B6C-92D9-A345B143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387399-A92A-4518-8241-8282FB4A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98B182D-CF2F-430D-9920-59D5795D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CF713A9-B267-445D-B009-8487402C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D113B3A-B8A8-47D7-9515-561BB297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B3141DC-B7DF-4BB5-9EA0-85195B32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8BABA5E-9091-438F-9AF6-6B2C13E3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971B34B-103B-467F-93F6-8DDDC91E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7F0E250-1619-47FA-A90E-9006D127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82D88A8-DE36-4833-8762-089B96E7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96FE793-C0DD-4287-A856-93D89BB4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22A6D36-5412-43AB-AC30-FA1ECC31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B4603E-8658-44D2-8A98-8CE426CE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8D35DD3-E775-4716-92D6-D03A6DA7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F690E4F-9548-45A6-908C-A4635F7D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8DFA43F-9C98-4BAB-9C95-6527F9E3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1400879-B76B-4902-AFB8-28E61B07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700D59A-4AFF-40BB-8214-B41B4679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230441D-83E1-4C16-8CFF-81877EE1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E01918D-508B-4920-B7F3-C05558B0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709D90E-C5D2-4DE2-B80B-E6952F17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09C701F-DA7A-44D5-B9A9-0012E5FA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17F1788-5603-46B9-B065-0E9C8E19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B49A51-4ABC-47D2-9D6B-65E66F26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D291C54-FE03-49E2-9AD6-001BDF90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8C4236A-7A5B-4DB6-B5D7-D7E0068C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5959A5C-AFA5-4DCC-94F9-D006F39A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7A5E963-3251-4600-B36C-61700BB0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1EBB7EC-D485-47C5-9A68-45A9476A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CDBBB84-0430-40D9-B655-985439D8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BEA1521-71E4-4311-AAA6-50DFA7C3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A466DE5-8FCD-439E-8248-FAF04157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E7DDDF9-8084-49EF-910A-ACC4A630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4C364E7-BAB0-4059-ABC0-BE7B1805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30B1-10CF-4209-A550-C7BB7D13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1B2AAE-3034-413D-A82C-25C40CB4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6ECB2FC-D81F-40D2-87CC-38A16AAF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ED5653B-FBD4-461E-B64A-C84AE9D5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79C937B-303B-4126-88D2-1C67758A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4AA68BD-43B4-4C4B-AAB8-466C8F4F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76942DE-EFA9-4050-9147-7276E6E6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AC0E366-F379-4FC0-A914-9338FF4F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AD51A8-1E2F-47EB-BD4E-604FC588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0866094-C8E7-476F-B611-85A9BCA3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ECCE470-F1BA-4031-935E-97C8F49C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D506F5E-6D3F-46D0-A647-EBDFAEA2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A54592-6C3E-4A4C-A11C-D186F064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48C522C-5DAE-4975-9F41-9D4A1609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D71EAD1-4C2C-4A6A-87FC-0AE9C76E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1BC8286-6B4B-4392-95ED-0AB044A3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F714072-7F40-4146-AD90-9C87EE8F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E13B221-9E9F-4A5F-B1F4-AB32464C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AB5A4A2-C544-4613-B9B2-A5B5AA8E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855C384-A51D-4A91-909A-586A8D12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CA6CB9B-F43A-4F51-B3A2-D3ED821A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1384B1A-2BA4-4D96-8BBB-7F714092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3F41125-028C-4A20-A3DC-B1F6B396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C2CBA4-DA45-455C-9B3B-73BCB887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D85EE44-BDD1-4B19-A981-884B3352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FE883BA-2FCA-4B90-A4E1-42B112B8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6F31488-07D6-4348-9016-045BC4C0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A4FC779-1EAE-4F72-A61C-3F629A98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7E1AD46-F08D-45E6-B87C-0BADEB99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67EAFA6-DEB3-4B15-A599-B835C981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E9362A5-2DC0-4DE5-840C-CACECB4A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7891AE7-0809-4037-9A30-3ED36ACA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5BB5497-D660-4315-91DA-FCB22BA3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27428A1-293A-4A59-8100-5B36CC2F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95E66F-1C44-4361-961D-25EC43F5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4B319F3-F3A2-4E2C-8AAB-A7777A21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5F76F7B-2949-44E2-90AB-41ADB615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36DFC6A-1E84-4138-840F-2A3C879C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843E348-FE82-43FE-82DD-502FA14E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A86EC55-4CAA-45ED-B1FE-DACB47D1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AAA9B16-E7A1-44FE-A819-BE71D805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9773964-E941-44EF-BBCD-332EE1A7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65F171-5520-439A-B2BD-86D92035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0807C-FD1F-4DB8-BF1A-FA3334FA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6601BF-4A1A-4FF8-9D76-A4F60F19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AB226-D9CE-46D2-A8A1-82FC664C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C7E418-E366-4D3C-A058-89EC1D5E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F1BF-A04A-4722-A585-C96496C3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B1E53E-5408-4021-A87E-551E1FC8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92E4D6-CEB8-49E9-A9B4-880B9DB3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B0CB6-9D1A-4558-9EF6-E02DA5D7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315F8D-38C1-4E8B-8453-67C79633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2AC147-CD1C-42AE-B903-58C5958A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05CCAC-D9B8-4CE1-8313-E24063BE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EE393C-4E61-44BE-AA05-6AA3333A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E8BE6-2352-4837-8E36-05660011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EAA804-8D5E-4F9F-A181-C4A46264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5506A9-632B-49EB-A342-6FE3775C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FE3F3-B86F-41A0-8CAC-7B8A24C0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BDF530-DBC7-43C4-AD2F-0C29D22A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ACFBF6-D179-4CF8-BA6B-707AC584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D1E3C8-9AA8-4F53-A13A-057CB2D7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AA7949-ACB6-47DD-B7AC-2A2DE831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879173-0847-4C62-838D-E1459CCA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1027C1-C96F-4382-B993-A5D00EBB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C3777C-01F0-429D-A0B2-F77E1CF5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10923D-38DB-491A-8D3F-EB77746F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313CA9-E0E0-4292-AB28-D819AE7F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76C541-5B8D-4275-9782-9175F727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FEFCF-6AC2-424F-8187-1F66DE06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460C29-4B6C-4E4C-A989-D876EE69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FB89D3-E47C-40A4-B0C5-F6020D75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3BB7CF-A7E9-498E-B870-1B96CCAE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C4CF66-6ECA-44BC-A3BC-3102EC64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4FAB1C-D7A4-4AAC-BCE6-1495FE05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72FB45-52A4-4BDB-BEE3-7357B86B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58E340-6F04-4998-83B7-F46CE619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9A24F2-0ECF-4E93-9948-892A2A1E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EC4D21-5E46-4B0B-8599-027A39D9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DB7EE5-4DBE-441F-A3E8-EE296A1E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E874-9381-4773-8711-6033B3C9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DF1429-C519-4B9E-B317-A24FC8C1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7A03EE-5415-4EED-A9A1-ECCD68A1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E85B59-50A2-4882-8609-7BDAC920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EF08BC-9F44-4BD3-89FB-5D6C7146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FFA2C2-D922-4067-A44C-99A3CDC8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7BB218-8010-4F8C-B14D-09EA7A4E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D7C02A-802A-4391-AE1E-D06FDFCD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39930E-0EAC-4234-8E20-B5AE2136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F55046-43B6-46BA-9138-C250B1B3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A4DCBA-CE1F-4DD1-BB0A-B6461DD7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B5EF3-7FEE-440D-9C9B-2A26A079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564069-9F46-41EF-95A0-DAA90688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4BB60E-1534-48D9-8EF2-7F8FD807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A3E5B4-665B-4060-AF9E-BCCA5AFA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4F48DC-1D66-46FE-9961-D49E5832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FB0637-D844-418E-96CA-F1C6B6AA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85A60F-8867-4446-87B7-7D9A1222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62A087-1678-4AE6-B39A-A6BD53D6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B083AF-82E9-48CC-93FE-D5ADA0A5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86931D-1DFA-41D6-95A6-2A14D3CB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30314E-A296-4B50-B118-CDC596FA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6A1A-3A93-4E36-BF7F-147F63FF479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CDD3-C62D-41DA-BED3-E8FC6A1C3BD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1318-84F4-4D7F-BC59-93E7A38E14A3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6C5B-E3FE-4D25-8991-0940E93077C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CE84-A22A-40D7-9DD6-CB0385F73EF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2E79-C79A-43BB-9D0F-9A3C4DF4FA8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F60A-FC06-42DA-9C84-59C63961825C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19CB-53B2-44BD-AEBF-F27CB60FDC3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3923-7FB6-4B70-A17B-82E4FE10647F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CDD3-E9E1-4856-A690-B87FC3742DF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AA29-DF56-461D-A8BF-6FFCF4913105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EBF4-099C-47BC-A0B5-E8D7C24C365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3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6AC1-E2B7-42A0-9B67-58E95F3CCEEE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3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7F7A-8D49-4FF1-A871-3158872ED9A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37DC-832C-497F-AE5A-F58668472F4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7D04-69D5-47F9-9D2A-61D77CD759D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735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737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9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0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1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2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3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4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5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6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7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8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9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0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1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2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3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4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5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6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7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8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9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0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1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2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3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4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5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6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7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8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9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0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1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2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3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4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5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6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7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8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8C47-C8DD-4670-9BFC-B5D4D2B48B1C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A38C-FE72-4D70-9206-81F417601EB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8273-5016-4364-A925-7371FE6A8684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BF7A-C33A-4EB6-AE70-22648BDFECC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6E86-EE3F-4B1F-ADE4-0B3209E52C04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ECC2-2C70-4A03-A6CE-D24981B05F8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5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C7AA-AA4E-49FA-96F4-FA6789174F77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5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5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0917-53E9-4AE0-8258-7AB08C9799C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5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B0BC-EB40-4AEC-9A46-832B61C02863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5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5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2B80-6F5E-4FAE-AB7A-FA94DD3DCA0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5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8EC2-25EF-4459-B75A-489251153E32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5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5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4149-7012-4741-9ED8-A62715FCAAF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dt" idx="5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A081-E608-4ECA-AC15-8052AAE154D3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ftr" idx="6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sldNum" idx="6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98AA-4C3D-4F5A-B84A-F9D4922310D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6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A86A-BCFD-4FDF-99F7-92E1EDCCE3E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6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6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E99C-9029-46C7-A642-1284168D589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dt" idx="6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C98C-D0AA-4E73-A923-604FDEB19365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 type="ftr" idx="6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 type="sldNum" idx="6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83B5-B32D-4AEC-B138-413F830D197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 type="dt" idx="6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1B0F-0FF0-403E-A674-A22A7561C4F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 type="ftr" idx="6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 type="sldNum" idx="7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87BF-4257-4451-B87A-6316538E279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dt" idx="7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B9FC-0F24-45EC-ABDC-F019D20BACD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ftr" idx="7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 type="sldNum" idx="7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4E08-F357-40F5-BC55-F19374F3834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7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C03F-CA04-45E5-828C-7B8B3DDE36E3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7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7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A485-E6E0-4C93-9F82-F40DCEC22B0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EA8E-28E8-4809-817D-72A40176C0C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E272-C6FC-4A07-A2B5-6C60B19A9A4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28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30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5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0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1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2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3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4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5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6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7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8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9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0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1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2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3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4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5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6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7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8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9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0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1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2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3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4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5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6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7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8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0B8B-9389-461D-A3D5-011A7328BB32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7D9A-49E3-43DD-B200-BAA3F1CE345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5448-EAD6-442B-B244-F11172BD3BE5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C6F6-7208-4D42-B6AA-3CF279BB449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7DB3-8431-4D3E-AC08-5F196D9A63BB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7736-5060-46D9-BFCB-EFBB1B20057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46D7-8DB5-4B76-9FB9-B4C7EA3D5D59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1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4159-D6C3-4AB8-8A08-AC25FA7881B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7"/>
          <p:cNvSpPr/>
          <p:nvPr/>
        </p:nvSpPr>
        <p:spPr>
          <a:xfrm>
            <a:off x="8221680" y="6165720"/>
            <a:ext cx="6476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5CFF-7B3B-4F45-8E4B-624CF824B1BC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CECA-877B-4D5F-A4CD-C2C0B145617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0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129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297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298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299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301" name="Picture 161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2" name="Picture 58" descr="D:\Documents and Settings\Nomjanns\My Documents\2013\Tx CI Approvals\Presentation Templates\Picture5.jpg"/>
          <p:cNvPicPr/>
          <p:nvPr/>
        </p:nvPicPr>
        <p:blipFill>
          <a:blip r:embed="rId3"/>
          <a:srcRect l="2670" t="0" r="0" b="0"/>
          <a:stretch/>
        </p:blipFill>
        <p:spPr>
          <a:xfrm>
            <a:off x="1258920" y="5245200"/>
            <a:ext cx="1440000" cy="631800"/>
          </a:xfrm>
          <a:prstGeom prst="rect">
            <a:avLst/>
          </a:prstGeom>
          <a:ln w="0">
            <a:noFill/>
          </a:ln>
        </p:spPr>
      </p:pic>
      <p:grpSp>
        <p:nvGrpSpPr>
          <p:cNvPr id="1303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130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5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6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7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8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309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131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13" name="Oval 102"/>
          <p:cNvSpPr/>
          <p:nvPr/>
        </p:nvSpPr>
        <p:spPr>
          <a:xfrm>
            <a:off x="436680" y="1362240"/>
            <a:ext cx="2162160" cy="21729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14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1315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6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7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8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9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0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1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2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23" name="Oval 118"/>
          <p:cNvSpPr/>
          <p:nvPr/>
        </p:nvSpPr>
        <p:spPr>
          <a:xfrm>
            <a:off x="1004760" y="706320"/>
            <a:ext cx="1111320" cy="1113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24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132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328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1329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0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1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2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3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4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35" name="Oval 128"/>
          <p:cNvSpPr/>
          <p:nvPr/>
        </p:nvSpPr>
        <p:spPr>
          <a:xfrm>
            <a:off x="482760" y="3227400"/>
            <a:ext cx="1801800" cy="18144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36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1337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8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9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340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1341" name="Oval 139"/>
            <p:cNvSpPr/>
            <p:nvPr/>
          </p:nvSpPr>
          <p:spPr>
            <a:xfrm>
              <a:off x="838080" y="4770360"/>
              <a:ext cx="18288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2916360" y="3921120"/>
            <a:ext cx="553248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ZA" sz="3200" spc="-1" strike="noStrike">
                <a:solidFill>
                  <a:srgbClr val="003896"/>
                </a:solidFill>
                <a:latin typeface="Arial"/>
              </a:rPr>
              <a:t>CLARIFIC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SUPPLY AND DELIVER UNINHIBITED OR INHIBITED VIRGIN OIL</a:t>
            </a:r>
            <a:br>
              <a:rPr sz="2400"/>
            </a:br>
            <a:br>
              <a:rPr sz="2400"/>
            </a:br>
            <a:r>
              <a:rPr b="1" lang="en-ZA" sz="3200" spc="-1" strike="noStrike">
                <a:solidFill>
                  <a:srgbClr val="003896"/>
                </a:solidFill>
                <a:latin typeface="Arial"/>
              </a:rPr>
              <a:t>Presentation</a:t>
            </a:r>
            <a:br>
              <a:rPr sz="3200"/>
            </a:br>
            <a:br>
              <a:rPr sz="3200"/>
            </a:br>
            <a:r>
              <a:rPr b="1" lang="en-ZA" sz="3200" spc="-1" strike="noStrike">
                <a:solidFill>
                  <a:srgbClr val="003896"/>
                </a:solidFill>
                <a:latin typeface="Arial"/>
              </a:rPr>
              <a:t>Commercial</a:t>
            </a:r>
            <a:br>
              <a:rPr sz="1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Rectangle 2"/>
          <p:cNvSpPr/>
          <p:nvPr/>
        </p:nvSpPr>
        <p:spPr>
          <a:xfrm>
            <a:off x="3276720" y="5222880"/>
            <a:ext cx="55767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20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Date: 18/11/2022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S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436680" y="1052280"/>
            <a:ext cx="837864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896"/>
                </a:solidFill>
                <a:uFillTx/>
                <a:latin typeface="Arial"/>
              </a:rPr>
              <a:t>A Three (3) steps evaluation will be conducted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1.Basic Compliance – Commercial Evaluation Requirement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2.Functionality - Technical Evaluation Criteria overall 80% Threshold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3.Prices and Preference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8" name="Slide Number Placeholder 4"/>
          <p:cNvSpPr/>
          <p:nvPr/>
        </p:nvSpPr>
        <p:spPr>
          <a:xfrm>
            <a:off x="3795840" y="64533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FFED-3D12-4C02-AEE0-E8D610288708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 txBox="1"/>
          <p:nvPr/>
        </p:nvSpPr>
        <p:spPr>
          <a:xfrm>
            <a:off x="436680" y="1052280"/>
            <a:ext cx="837864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896"/>
                </a:solidFill>
                <a:latin typeface="Arial"/>
              </a:rPr>
              <a:t>Contractual requirements are not evaluation criteria. They are required to be met and assessed after the evaluation and ranking of the tenders.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SDL&amp;I undertaking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Health and Safety compliance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Environmental compliance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Quality compliance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0" name="Slide Number Placeholder 4"/>
          <p:cNvSpPr/>
          <p:nvPr/>
        </p:nvSpPr>
        <p:spPr>
          <a:xfrm>
            <a:off x="3795840" y="64533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762F-B7FC-4905-B0EF-9BC1C5D09805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CTUAL OBLIG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TO 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CLOSING DATE AND TIME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REF: kzn048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2 COPIES PLUS USB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Submission of the list of mandatory tender returnable documents as indicated in 1.3 Tender Returnables,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SDB4 must be signed and returned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Strike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65C1-449F-4E2D-900B-20837430A041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30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5" name="Slide Number Placeholder 4"/>
          <p:cNvSpPr/>
          <p:nvPr/>
        </p:nvSpPr>
        <p:spPr>
          <a:xfrm>
            <a:off x="3795840" y="64533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6590-E74C-48D7-BC39-2A05E5DC2CB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32"/>
          <p:cNvSpPr/>
          <p:nvPr/>
        </p:nvSpPr>
        <p:spPr>
          <a:xfrm>
            <a:off x="1650960" y="0"/>
            <a:ext cx="1408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57" name="Group 88"/>
          <p:cNvGrpSpPr/>
          <p:nvPr/>
        </p:nvGrpSpPr>
        <p:grpSpPr>
          <a:xfrm>
            <a:off x="0" y="0"/>
            <a:ext cx="9148680" cy="6858000"/>
            <a:chOff x="0" y="0"/>
            <a:chExt cx="9148680" cy="6858000"/>
          </a:xfrm>
        </p:grpSpPr>
        <p:grpSp>
          <p:nvGrpSpPr>
            <p:cNvPr id="1358" name="Group 87"/>
            <p:cNvGrpSpPr/>
            <p:nvPr/>
          </p:nvGrpSpPr>
          <p:grpSpPr>
            <a:xfrm>
              <a:off x="0" y="0"/>
              <a:ext cx="8640720" cy="6858000"/>
              <a:chOff x="0" y="0"/>
              <a:chExt cx="8640720" cy="6858000"/>
            </a:xfrm>
          </p:grpSpPr>
          <p:pic>
            <p:nvPicPr>
              <p:cNvPr id="1359" name="Picture 3" descr="dd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82556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0" name="Picture 86" descr="logo small"/>
              <p:cNvPicPr/>
              <p:nvPr/>
            </p:nvPicPr>
            <p:blipFill>
              <a:blip r:embed="rId2"/>
              <a:stretch/>
            </p:blipFill>
            <p:spPr>
              <a:xfrm>
                <a:off x="6494400" y="517680"/>
                <a:ext cx="2146320" cy="54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1" name="Rectangle 35"/>
            <p:cNvSpPr/>
            <p:nvPr/>
          </p:nvSpPr>
          <p:spPr>
            <a:xfrm>
              <a:off x="468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389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578400" y="3213000"/>
            <a:ext cx="32032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9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3" name="Group 82"/>
          <p:cNvGrpSpPr/>
          <p:nvPr/>
        </p:nvGrpSpPr>
        <p:grpSpPr>
          <a:xfrm>
            <a:off x="260280" y="1201680"/>
            <a:ext cx="2482920" cy="2444760"/>
            <a:chOff x="260280" y="1201680"/>
            <a:chExt cx="2482920" cy="2444760"/>
          </a:xfrm>
        </p:grpSpPr>
        <p:sp>
          <p:nvSpPr>
            <p:cNvPr id="1364" name="Oval 38"/>
            <p:cNvSpPr/>
            <p:nvPr/>
          </p:nvSpPr>
          <p:spPr>
            <a:xfrm>
              <a:off x="37152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5" name="Oval 40"/>
            <p:cNvSpPr/>
            <p:nvPr/>
          </p:nvSpPr>
          <p:spPr>
            <a:xfrm>
              <a:off x="34776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6" name="Oval 41"/>
            <p:cNvSpPr/>
            <p:nvPr/>
          </p:nvSpPr>
          <p:spPr>
            <a:xfrm>
              <a:off x="260280" y="1225440"/>
              <a:ext cx="236052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7" name="Oval 42"/>
            <p:cNvSpPr/>
            <p:nvPr/>
          </p:nvSpPr>
          <p:spPr>
            <a:xfrm>
              <a:off x="38412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8" name="Oval 43"/>
            <p:cNvSpPr/>
            <p:nvPr/>
          </p:nvSpPr>
          <p:spPr>
            <a:xfrm>
              <a:off x="31104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69" name="Oval 39"/>
          <p:cNvSpPr/>
          <p:nvPr/>
        </p:nvSpPr>
        <p:spPr>
          <a:xfrm>
            <a:off x="439560" y="1362240"/>
            <a:ext cx="2162520" cy="2172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70" name="Group 83"/>
          <p:cNvGrpSpPr/>
          <p:nvPr/>
        </p:nvGrpSpPr>
        <p:grpSpPr>
          <a:xfrm>
            <a:off x="174600" y="1201680"/>
            <a:ext cx="2643120" cy="2494080"/>
            <a:chOff x="174600" y="1201680"/>
            <a:chExt cx="2643120" cy="2494080"/>
          </a:xfrm>
        </p:grpSpPr>
        <p:sp>
          <p:nvSpPr>
            <p:cNvPr id="1371" name="Oval 44"/>
            <p:cNvSpPr/>
            <p:nvPr/>
          </p:nvSpPr>
          <p:spPr>
            <a:xfrm>
              <a:off x="44604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2" name="Oval 45"/>
            <p:cNvSpPr/>
            <p:nvPr/>
          </p:nvSpPr>
          <p:spPr>
            <a:xfrm>
              <a:off x="1746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3" name="Oval 46"/>
            <p:cNvSpPr/>
            <p:nvPr/>
          </p:nvSpPr>
          <p:spPr>
            <a:xfrm>
              <a:off x="45864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374" name="Group 84"/>
          <p:cNvGrpSpPr/>
          <p:nvPr/>
        </p:nvGrpSpPr>
        <p:grpSpPr>
          <a:xfrm>
            <a:off x="298440" y="2782800"/>
            <a:ext cx="1479600" cy="1454400"/>
            <a:chOff x="298440" y="2782800"/>
            <a:chExt cx="1479600" cy="1454400"/>
          </a:xfrm>
        </p:grpSpPr>
        <p:sp>
          <p:nvSpPr>
            <p:cNvPr id="1375" name="Oval 68"/>
            <p:cNvSpPr/>
            <p:nvPr/>
          </p:nvSpPr>
          <p:spPr>
            <a:xfrm>
              <a:off x="369720" y="2840040"/>
              <a:ext cx="1352880" cy="1366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6" name="Oval 69"/>
            <p:cNvSpPr/>
            <p:nvPr/>
          </p:nvSpPr>
          <p:spPr>
            <a:xfrm>
              <a:off x="396720" y="2881440"/>
              <a:ext cx="1295640" cy="12967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7" name="Oval 70"/>
            <p:cNvSpPr/>
            <p:nvPr/>
          </p:nvSpPr>
          <p:spPr>
            <a:xfrm>
              <a:off x="339840" y="2797200"/>
              <a:ext cx="1409760" cy="1409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8" name="Oval 71"/>
            <p:cNvSpPr/>
            <p:nvPr/>
          </p:nvSpPr>
          <p:spPr>
            <a:xfrm>
              <a:off x="298440" y="2797200"/>
              <a:ext cx="1393920" cy="1409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9" name="Oval 72"/>
            <p:cNvSpPr/>
            <p:nvPr/>
          </p:nvSpPr>
          <p:spPr>
            <a:xfrm>
              <a:off x="369720" y="2825640"/>
              <a:ext cx="1408320" cy="1411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0" name="Oval 73"/>
            <p:cNvSpPr/>
            <p:nvPr/>
          </p:nvSpPr>
          <p:spPr>
            <a:xfrm>
              <a:off x="325440" y="2782800"/>
              <a:ext cx="1397160" cy="1409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1" name="Oval 74"/>
            <p:cNvSpPr/>
            <p:nvPr/>
          </p:nvSpPr>
          <p:spPr>
            <a:xfrm>
              <a:off x="396720" y="2881440"/>
              <a:ext cx="1295640" cy="12967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2" name="Oval 75"/>
            <p:cNvSpPr/>
            <p:nvPr/>
          </p:nvSpPr>
          <p:spPr>
            <a:xfrm>
              <a:off x="411120" y="2881440"/>
              <a:ext cx="1268280" cy="126828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383" name="Oval 76"/>
          <p:cNvSpPr/>
          <p:nvPr/>
        </p:nvSpPr>
        <p:spPr>
          <a:xfrm>
            <a:off x="404640" y="2881440"/>
            <a:ext cx="1281240" cy="1284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384" name="Group 85"/>
          <p:cNvGrpSpPr/>
          <p:nvPr/>
        </p:nvGrpSpPr>
        <p:grpSpPr>
          <a:xfrm>
            <a:off x="241200" y="2782800"/>
            <a:ext cx="1579680" cy="1481400"/>
            <a:chOff x="241200" y="2782800"/>
            <a:chExt cx="1579680" cy="1481400"/>
          </a:xfrm>
        </p:grpSpPr>
        <p:sp>
          <p:nvSpPr>
            <p:cNvPr id="1385" name="Oval 77"/>
            <p:cNvSpPr/>
            <p:nvPr/>
          </p:nvSpPr>
          <p:spPr>
            <a:xfrm>
              <a:off x="411120" y="2782800"/>
              <a:ext cx="1409760" cy="1409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6" name="Oval 78"/>
            <p:cNvSpPr/>
            <p:nvPr/>
          </p:nvSpPr>
          <p:spPr>
            <a:xfrm>
              <a:off x="241200" y="2868480"/>
              <a:ext cx="1409760" cy="139572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7" name="Oval 79"/>
            <p:cNvSpPr/>
            <p:nvPr/>
          </p:nvSpPr>
          <p:spPr>
            <a:xfrm>
              <a:off x="411120" y="2868480"/>
              <a:ext cx="1397160" cy="139572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pic>
        <p:nvPicPr>
          <p:cNvPr id="1388" name="Picture 56" descr=""/>
          <p:cNvPicPr/>
          <p:nvPr/>
        </p:nvPicPr>
        <p:blipFill>
          <a:blip r:embed="rId5"/>
          <a:stretch/>
        </p:blipFill>
        <p:spPr>
          <a:xfrm>
            <a:off x="5435640" y="6213600"/>
            <a:ext cx="3197160" cy="31428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34" descr="Gold leaf left.png"/>
          <p:cNvPicPr/>
          <p:nvPr/>
        </p:nvPicPr>
        <p:blipFill>
          <a:blip r:embed="rId6"/>
          <a:stretch/>
        </p:blipFill>
        <p:spPr>
          <a:xfrm>
            <a:off x="3236760" y="2801880"/>
            <a:ext cx="623880" cy="159084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35" descr="Gold leaf right.png"/>
          <p:cNvPicPr/>
          <p:nvPr/>
        </p:nvPicPr>
        <p:blipFill>
          <a:blip r:embed="rId7"/>
          <a:stretch/>
        </p:blipFill>
        <p:spPr>
          <a:xfrm>
            <a:off x="4722840" y="2781360"/>
            <a:ext cx="6444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engelight</dc:creator>
  <dc:description/>
  <dc:language>en-US</dc:language>
  <cp:lastModifiedBy>Lindokuhle Chonco</cp:lastModifiedBy>
  <cp:lastPrinted>2022-08-12T12:27:53Z</cp:lastPrinted>
  <dcterms:modified xsi:type="dcterms:W3CDTF">2022-11-18T07:41:17Z</dcterms:modified>
  <cp:revision>562</cp:revision>
  <dc:subject/>
  <dc:title>Slide 1</dc:title>
</cp:coreProperties>
</file>